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2A82-09EC-4BB0-BC3B-CD49370A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A857-1269-41B8-A2FB-29D98E02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37C8-CBDA-4B74-898A-357E34017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A058-F381-40A2-92F8-026914D97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43D9-E90C-4558-8024-DDA50ACFA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D8C4-E5B1-446A-A5BF-0BDF641A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A37E-D41B-4514-901C-45DB7E66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C087-3A37-4E12-BEA5-7B7C4B32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3C1D-E5FE-4582-BEF7-1068415C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8F4B-4F37-43DB-BD5F-8C57E30F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465A-60D6-477D-9EEE-5A02C8DE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8655-D7C0-4BFA-A50C-75105E34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3382-B144-42E3-B397-67BD2FC5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CA54-D84E-4F2F-BB1F-BA11CECA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9B41-91E2-4792-A575-735CAC3A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BF73-71C2-4A44-AA02-09FD2B82E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F934-3E5D-4124-A5D6-6FAE6E49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10E4B-1102-41EA-8B29-FD1A8ABED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4B236-2C58-4227-86A4-07E69E4B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DF162-5C7D-4C73-9D6D-3D591E4B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72697-8519-4752-B0F8-EA0FB29F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2D484-2A53-46F7-B2BB-E693694E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9F8A-0882-4FB1-A519-3D82A983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5D70A-8109-4ED9-81DB-6CB5F374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FC45E-345F-42F8-AA98-65870BA2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3F6AF-39BB-43D9-9F52-F07CD839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2A436-D7FA-4FAB-8DE8-48419864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9CD27-2254-408E-9788-222F7431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9D9CD-6747-4741-9C29-A0364E4E2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B6738-6789-4E15-938F-693E5448E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C4C70-1798-405D-A424-B644B0B98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67FC1-06DA-4199-95B7-1BE562EE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D6F36-1957-4B02-9F2B-D1931D6A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7CBF-E7AD-42A2-9E05-778C6924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D29B8-2CCE-41BE-A3F6-20C185F7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17395-6BA9-43BF-96EC-B24066EE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B3743-7F6A-4840-9E91-85C5A9AB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CE1EA-EA9F-4F69-BDAC-8D486A00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690F6-624F-4234-A6E1-B22FE2CB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A1779-504F-4076-AC28-96208E5F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47A83-0692-446A-BD26-1A253B53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BAE21-5306-4689-9D09-8CA9825FC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34897-B716-46E8-BA7E-2A2CAB46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18DE1-0E0B-4E41-B619-42731D7C2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7F88-D446-41B4-9B05-EE460D47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FA5B6-342C-44D0-8375-795553A2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B0041-EB8A-4D64-947D-3E5004EF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A8889-5B55-44C4-B746-F9E45EF0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7AF65-1177-4705-A2B0-7BC6E3D6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410EB-9B00-4507-97D1-46357E37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599C7-A64D-4D6E-B1C6-249F87AA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1437C-4A02-40AB-B8F0-A51C4C97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F285F-A08D-4FD2-BB29-A67113D2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35983-6254-4544-9CA7-3309F502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CCE23-24C6-4AFD-B0FB-0102CA697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C40F-9FA1-49B3-A429-B0593A73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B9530-DDE3-40B1-AF7A-61CED1242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98BC0-AB00-4FF7-AD91-4F75E1F68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270C2-E895-4B57-8213-674AF7BF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B8EB0-61D4-48D0-92E7-D66F930E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5B3D4-B2E5-4228-B789-63C74D56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2BC29-B8FE-4368-A215-F4379B57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4E020-EF4A-415C-9A67-38D8152E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726EF-D7C9-4E1E-BF24-65C1B91D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0C1F0-9AA2-454F-8D42-89549A8F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64299-8253-4622-AB81-DFAD6F05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7E74-4A36-4E8B-8E3F-ED421C89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FB46D-6529-4155-82C5-9AC44885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3BF2E-0775-43A1-AEE9-E9DD4BC33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07EE8-B817-4D5A-95C3-0365A4127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F716-C6CB-4493-B6DD-9A1DD7E1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B539-3050-4164-8B27-3B351AE1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fb99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575f6d"/>
                </a:solidFill>
                <a:latin typeface="Copperplate Gothic Bold"/>
              </a:rPr>
              <a:t>Click to edit the title text format</a:t>
            </a: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1" marL="620640" indent="-228600">
              <a:spcBef>
                <a:spcPts val="40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2" marL="858960" indent="-228600">
              <a:spcBef>
                <a:spcPts val="400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3" marL="1143000" indent="-228600">
              <a:spcBef>
                <a:spcPts val="400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4" marL="1371600" indent="-228600">
              <a:spcBef>
                <a:spcPts val="400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660F-2017-4CEF-BC13-E8408729308A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cc4800"/>
              </a:gs>
              <a:gs pos="50000">
                <a:srgbClr val="ff8b41"/>
              </a:gs>
              <a:gs pos="100000">
                <a:srgbClr val="cc48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ffb99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575f6d"/>
                </a:solidFill>
                <a:latin typeface="Copperplate Gothic Bold"/>
              </a:rPr>
              <a:t>Click to edit the title text format</a:t>
            </a: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1" marL="620640" indent="-228600">
              <a:spcBef>
                <a:spcPts val="40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2" marL="858960" indent="-228600">
              <a:spcBef>
                <a:spcPts val="400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3" marL="1143000" indent="-228600">
              <a:spcBef>
                <a:spcPts val="400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4" marL="1371600" indent="-228600">
              <a:spcBef>
                <a:spcPts val="400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2334-A2A7-4D99-A5EC-C85D7AA51742}" type="slidenum"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fb99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pic>
        <p:nvPicPr>
          <p:cNvPr id="102" name="Chevron 10" descr=""/>
          <p:cNvPicPr/>
          <p:nvPr/>
        </p:nvPicPr>
        <p:blipFill>
          <a:blip r:embed="rId5"/>
          <a:stretch/>
        </p:blipFill>
        <p:spPr>
          <a:xfrm>
            <a:off x="3571920" y="2962440"/>
            <a:ext cx="317520" cy="360360"/>
          </a:xfrm>
          <a:prstGeom prst="rect">
            <a:avLst/>
          </a:prstGeom>
          <a:ln w="0">
            <a:noFill/>
          </a:ln>
        </p:spPr>
      </p:pic>
      <p:pic>
        <p:nvPicPr>
          <p:cNvPr id="103" name="Chevron 15" descr=""/>
          <p:cNvPicPr/>
          <p:nvPr/>
        </p:nvPicPr>
        <p:blipFill>
          <a:blip r:embed="rId6"/>
          <a:stretch/>
        </p:blipFill>
        <p:spPr>
          <a:xfrm>
            <a:off x="3382920" y="2962440"/>
            <a:ext cx="317520" cy="3603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575f6d"/>
                </a:solidFill>
                <a:latin typeface="Copperplate Gothic Bold"/>
              </a:rPr>
              <a:t>Click to edit the title text format</a:t>
            </a: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1" marL="620640" indent="-228600">
              <a:spcBef>
                <a:spcPts val="40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2" marL="858960" indent="-228600">
              <a:spcBef>
                <a:spcPts val="400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3" marL="1143000" indent="-228600">
              <a:spcBef>
                <a:spcPts val="400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4" marL="1371600" indent="-228600">
              <a:spcBef>
                <a:spcPts val="400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5A6B-7A0D-4FA4-8612-39C49735CCC2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575f6d"/>
                </a:solidFill>
                <a:latin typeface="Copperplate Gothic Bold"/>
              </a:rPr>
              <a:t>Click to edit the title text format</a:t>
            </a: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1" marL="620640" indent="-228600">
              <a:spcBef>
                <a:spcPts val="40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2" marL="858960" indent="-228600">
              <a:spcBef>
                <a:spcPts val="400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3" marL="1143000" indent="-228600">
              <a:spcBef>
                <a:spcPts val="400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4" marL="1371600" indent="-228600">
              <a:spcBef>
                <a:spcPts val="400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A0B5-7F30-42A0-A95C-22A6D83E8AD3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575f6d"/>
                </a:solidFill>
                <a:latin typeface="Copperplate Gothic Bold"/>
              </a:rPr>
              <a:t>Click to edit the title text format</a:t>
            </a: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1" marL="620640" indent="-228600">
              <a:spcBef>
                <a:spcPts val="40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2" marL="858960" indent="-228600">
              <a:spcBef>
                <a:spcPts val="400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3" marL="1143000" indent="-228600">
              <a:spcBef>
                <a:spcPts val="400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4" marL="1371600" indent="-228600">
              <a:spcBef>
                <a:spcPts val="400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13AE-75D9-47BA-9844-10B2609EA0B0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fb99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pic>
        <p:nvPicPr>
          <p:cNvPr id="233" name="Chevron 19" descr=""/>
          <p:cNvPicPr/>
          <p:nvPr/>
        </p:nvPicPr>
        <p:blipFill>
          <a:blip r:embed="rId5"/>
          <a:stretch/>
        </p:blipFill>
        <p:spPr>
          <a:xfrm>
            <a:off x="8594640" y="4943520"/>
            <a:ext cx="317520" cy="366840"/>
          </a:xfrm>
          <a:prstGeom prst="rect">
            <a:avLst/>
          </a:prstGeom>
          <a:ln w="0">
            <a:noFill/>
          </a:ln>
        </p:spPr>
      </p:pic>
      <p:pic>
        <p:nvPicPr>
          <p:cNvPr id="234" name="Chevron 20" descr=""/>
          <p:cNvPicPr/>
          <p:nvPr/>
        </p:nvPicPr>
        <p:blipFill>
          <a:blip r:embed="rId6"/>
          <a:stretch/>
        </p:blipFill>
        <p:spPr>
          <a:xfrm>
            <a:off x="8412120" y="4943520"/>
            <a:ext cx="317520" cy="36684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575f6d"/>
                </a:solidFill>
                <a:latin typeface="Copperplate Gothic Bold"/>
              </a:rPr>
              <a:t>Click to edit the title text format</a:t>
            </a: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1" marL="620640" indent="-228600">
              <a:spcBef>
                <a:spcPts val="40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2" marL="858960" indent="-228600">
              <a:spcBef>
                <a:spcPts val="400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3" marL="1143000" indent="-228600">
              <a:spcBef>
                <a:spcPts val="400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4" marL="1371600" indent="-228600">
              <a:spcBef>
                <a:spcPts val="400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816A-765A-4F71-AFDE-921AFB267F8D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youtube.com/watch?v=JuFsDN8dsJU&amp;feature=related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colour logo new one with name"/>
          <p:cNvPicPr/>
          <p:nvPr/>
        </p:nvPicPr>
        <p:blipFill>
          <a:blip r:embed="rId1"/>
          <a:stretch/>
        </p:blipFill>
        <p:spPr>
          <a:xfrm>
            <a:off x="3143160" y="142920"/>
            <a:ext cx="2214720" cy="2004840"/>
          </a:xfrm>
          <a:prstGeom prst="rect">
            <a:avLst/>
          </a:prstGeom>
          <a:ln w="0">
            <a:noFill/>
          </a:ln>
        </p:spPr>
      </p:pic>
      <p:pic>
        <p:nvPicPr>
          <p:cNvPr id="277" name="Title 1" descr=""/>
          <p:cNvPicPr/>
          <p:nvPr/>
        </p:nvPicPr>
        <p:blipFill>
          <a:blip r:embed="rId2"/>
          <a:stretch/>
        </p:blipFill>
        <p:spPr>
          <a:xfrm>
            <a:off x="706320" y="2066760"/>
            <a:ext cx="8218440" cy="18399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42960" y="4000320"/>
            <a:ext cx="7772400" cy="1199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575f6d"/>
                </a:solidFill>
                <a:latin typeface="Boopee"/>
              </a:rPr>
              <a:t>PLP – Powerful Learning Practice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Boopee"/>
              </a:rPr>
              <a:t>PLP is an opportunity for educators to embed authentic learning experiences using 21</a:t>
            </a:r>
            <a:r>
              <a:rPr b="0" lang="en-AU" sz="3600" spc="-1" strike="noStrike" baseline="30000">
                <a:solidFill>
                  <a:srgbClr val="000000"/>
                </a:solidFill>
                <a:latin typeface="Boopee"/>
              </a:rPr>
              <a:t>st</a:t>
            </a:r>
            <a:r>
              <a:rPr b="0" lang="en-AU" sz="3600" spc="-1" strike="noStrike">
                <a:solidFill>
                  <a:srgbClr val="000000"/>
                </a:solidFill>
                <a:latin typeface="Boopee"/>
              </a:rPr>
              <a:t> Century Technologies</a:t>
            </a:r>
            <a:endParaRPr b="0" lang="en-US" sz="3600" spc="-1" strike="noStrike">
              <a:solidFill>
                <a:srgbClr val="000000"/>
              </a:solidFill>
              <a:latin typeface="Boopee"/>
            </a:endParaRPr>
          </a:p>
          <a:p>
            <a:pPr marL="339480" indent="-237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pee"/>
            </a:endParaRPr>
          </a:p>
          <a:p>
            <a:pPr marL="339480" indent="-23760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Boopee"/>
              </a:rPr>
              <a:t>Educators and students sharing a journey together and being innovative using Web 2.0 Technologies</a:t>
            </a:r>
            <a:endParaRPr b="0" lang="en-US" sz="3600" spc="-1" strike="noStrike">
              <a:solidFill>
                <a:srgbClr val="000000"/>
              </a:solidFill>
              <a:latin typeface="Boopee"/>
            </a:endParaRPr>
          </a:p>
          <a:p>
            <a:pPr marL="339480" indent="-237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marL="339480" indent="-23760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Boopee"/>
              </a:rPr>
              <a:t>http://www.youtube.com/watch?v=m6rmAGuteI&amp;feature=player_embedded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83" name="TextBox 4"/>
          <p:cNvSpPr/>
          <p:nvPr/>
        </p:nvSpPr>
        <p:spPr>
          <a:xfrm>
            <a:off x="1143000" y="371484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Boopee"/>
              </a:rPr>
              <a:t>It works hand in hand with our 1:1 Netbooks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2716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pee"/>
              </a:rPr>
              <a:t>Innovate and take risks</a:t>
            </a:r>
            <a:endParaRPr b="0" lang="en-US" sz="2800" spc="-1" strike="noStrike">
              <a:solidFill>
                <a:srgbClr val="000000"/>
              </a:solidFill>
              <a:latin typeface="Boopee"/>
            </a:endParaRPr>
          </a:p>
          <a:p>
            <a:pPr marL="324720" indent="-22716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pee"/>
              </a:rPr>
              <a:t>Common focus – Ind Ed and kids </a:t>
            </a:r>
            <a:endParaRPr b="0" lang="en-US" sz="2800" spc="-1" strike="noStrike">
              <a:solidFill>
                <a:srgbClr val="000000"/>
              </a:solidFill>
              <a:latin typeface="Boopee"/>
            </a:endParaRPr>
          </a:p>
          <a:p>
            <a:pPr marL="324720" indent="-22716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pee"/>
              </a:rPr>
              <a:t>Meet and discuss each week after school weekly</a:t>
            </a:r>
            <a:endParaRPr b="0" lang="en-US" sz="2800" spc="-1" strike="noStrike">
              <a:solidFill>
                <a:srgbClr val="000000"/>
              </a:solidFill>
              <a:latin typeface="Boopee"/>
            </a:endParaRPr>
          </a:p>
          <a:p>
            <a:pPr marL="324720" indent="-22716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pee"/>
              </a:rPr>
              <a:t>Share and trust</a:t>
            </a:r>
            <a:endParaRPr b="0" lang="en-US" sz="2800" spc="-1" strike="noStrike">
              <a:solidFill>
                <a:srgbClr val="000000"/>
              </a:solidFill>
              <a:latin typeface="Boopee"/>
            </a:endParaRPr>
          </a:p>
          <a:p>
            <a:pPr marL="324720" indent="-22716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pee"/>
              </a:rPr>
              <a:t>Support each other</a:t>
            </a:r>
            <a:endParaRPr b="0" lang="en-US" sz="2800" spc="-1" strike="noStrike">
              <a:solidFill>
                <a:srgbClr val="000000"/>
              </a:solidFill>
              <a:latin typeface="Boopee"/>
            </a:endParaRPr>
          </a:p>
          <a:p>
            <a:pPr marL="324720" indent="-22716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pee"/>
              </a:rPr>
              <a:t>Extra mtg after elluminate session to reflect</a:t>
            </a:r>
            <a:endParaRPr b="0" lang="en-US" sz="2800" spc="-1" strike="noStrike">
              <a:solidFill>
                <a:srgbClr val="000000"/>
              </a:solidFill>
              <a:latin typeface="Boopee"/>
            </a:endParaRPr>
          </a:p>
          <a:p>
            <a:pPr marL="324720" indent="-22716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pee"/>
            </a:endParaRPr>
          </a:p>
          <a:p>
            <a:pPr marL="324720" indent="-22716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pee"/>
              </a:rPr>
              <a:t>Assist team to leader to remind each other</a:t>
            </a:r>
            <a:endParaRPr b="0" lang="en-US" sz="2800" spc="-1" strike="noStrike">
              <a:solidFill>
                <a:srgbClr val="000000"/>
              </a:solidFill>
              <a:latin typeface="Boopee"/>
            </a:endParaRPr>
          </a:p>
          <a:p>
            <a:pPr marL="339480" indent="-23760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pee"/>
              </a:rPr>
              <a:t>Creating/developing/sharing knowledge</a:t>
            </a:r>
            <a:endParaRPr b="0" lang="en-US" sz="2800" spc="-1" strike="noStrike">
              <a:solidFill>
                <a:srgbClr val="000000"/>
              </a:solidFill>
              <a:latin typeface="Boopee"/>
            </a:endParaRPr>
          </a:p>
          <a:p>
            <a:pPr marL="339480" indent="-23760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pee"/>
              </a:rPr>
              <a:t>Kids sharing</a:t>
            </a:r>
            <a:endParaRPr b="0" lang="en-US" sz="2800" spc="-1" strike="noStrike">
              <a:solidFill>
                <a:srgbClr val="000000"/>
              </a:solidFill>
              <a:latin typeface="Boopee"/>
            </a:endParaRPr>
          </a:p>
          <a:p>
            <a:pPr marL="339480" indent="-23760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pee"/>
              </a:rPr>
              <a:t>Walk the talk</a:t>
            </a:r>
            <a:endParaRPr b="0" lang="en-US" sz="2800" spc="-1" strike="noStrike">
              <a:solidFill>
                <a:srgbClr val="000000"/>
              </a:solidFill>
              <a:latin typeface="Boopee"/>
            </a:endParaRPr>
          </a:p>
          <a:p>
            <a:pPr marL="339480" indent="-23760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pee"/>
              </a:rPr>
              <a:t>Share with staff at staff meetings seeking feedback – all school staff involved</a:t>
            </a:r>
            <a:endParaRPr b="0" lang="en-US" sz="2800" spc="-1" strike="noStrike">
              <a:solidFill>
                <a:srgbClr val="000000"/>
              </a:solidFill>
              <a:latin typeface="Boopee"/>
            </a:endParaRPr>
          </a:p>
          <a:p>
            <a:pPr marL="339480" indent="-23760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pee"/>
            </a:endParaRPr>
          </a:p>
        </p:txBody>
      </p:sp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Title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723520" cy="11588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0" y="148104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Boopee"/>
              </a:rPr>
              <a:t>Ning – PLP Social Network</a:t>
            </a:r>
            <a:endParaRPr b="0" lang="en-US" sz="3600" spc="-1" strike="noStrike">
              <a:solidFill>
                <a:srgbClr val="000000"/>
              </a:solidFill>
              <a:latin typeface="Boopee"/>
            </a:endParaRPr>
          </a:p>
          <a:p>
            <a:pPr marL="343080" indent="-240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pee"/>
            </a:endParaRPr>
          </a:p>
          <a:p>
            <a:pPr marL="343080" indent="-24012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Boopee"/>
              </a:rPr>
              <a:t>Delicious </a:t>
            </a:r>
            <a:endParaRPr b="0" lang="en-US" sz="3600" spc="-1" strike="noStrike">
              <a:solidFill>
                <a:srgbClr val="000000"/>
              </a:solidFill>
              <a:latin typeface="Boopee"/>
            </a:endParaRPr>
          </a:p>
          <a:p>
            <a:pPr marL="343080" indent="-240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pee"/>
            </a:endParaRPr>
          </a:p>
          <a:p>
            <a:pPr marL="343080" indent="-24012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Boopee"/>
              </a:rPr>
              <a:t>Twitter</a:t>
            </a:r>
            <a:endParaRPr b="0" lang="en-US" sz="3600" spc="-1" strike="noStrike">
              <a:solidFill>
                <a:srgbClr val="000000"/>
              </a:solidFill>
              <a:latin typeface="Boopee"/>
            </a:endParaRPr>
          </a:p>
          <a:p>
            <a:pPr marL="343080" indent="-240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pee"/>
            </a:endParaRPr>
          </a:p>
          <a:p>
            <a:pPr marL="343080" indent="-24012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Boopee"/>
              </a:rPr>
              <a:t>Diigo</a:t>
            </a:r>
            <a:endParaRPr b="0" lang="en-US" sz="3600" spc="-1" strike="noStrike">
              <a:solidFill>
                <a:srgbClr val="000000"/>
              </a:solidFill>
              <a:latin typeface="Boopee"/>
            </a:endParaRPr>
          </a:p>
          <a:p>
            <a:pPr marL="343080" indent="-24012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pee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2"/>
          <a:stretch/>
        </p:blipFill>
        <p:spPr>
          <a:xfrm>
            <a:off x="2500200" y="2643120"/>
            <a:ext cx="2266920" cy="6764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"/>
          <p:cNvPicPr/>
          <p:nvPr/>
        </p:nvPicPr>
        <p:blipFill>
          <a:blip r:embed="rId3"/>
          <a:stretch/>
        </p:blipFill>
        <p:spPr>
          <a:xfrm>
            <a:off x="5429160" y="1357200"/>
            <a:ext cx="1357560" cy="1071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"/>
          <p:cNvPicPr/>
          <p:nvPr/>
        </p:nvPicPr>
        <p:blipFill>
          <a:blip r:embed="rId4"/>
          <a:stretch/>
        </p:blipFill>
        <p:spPr>
          <a:xfrm>
            <a:off x="2571840" y="3714840"/>
            <a:ext cx="1071360" cy="10508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7" descr=""/>
          <p:cNvPicPr/>
          <p:nvPr/>
        </p:nvPicPr>
        <p:blipFill>
          <a:blip r:embed="rId5"/>
          <a:stretch/>
        </p:blipFill>
        <p:spPr>
          <a:xfrm>
            <a:off x="2500200" y="5072040"/>
            <a:ext cx="142884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-360" y="1499760"/>
            <a:ext cx="7715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30040">
              <a:lnSpc>
                <a:spcPct val="90000"/>
              </a:lnSpc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000000"/>
                </a:solidFill>
                <a:latin typeface="Boopee"/>
              </a:rPr>
              <a:t>Students use Web 2.0 applications outside of school, we need to keep up to date with 21</a:t>
            </a:r>
            <a:r>
              <a:rPr b="0" lang="en-AU" sz="3300" spc="-1" strike="noStrike" baseline="30000">
                <a:solidFill>
                  <a:srgbClr val="000000"/>
                </a:solidFill>
                <a:latin typeface="Boopee"/>
              </a:rPr>
              <a:t>st</a:t>
            </a:r>
            <a:r>
              <a:rPr b="0" lang="en-AU" sz="3300" spc="-1" strike="noStrike">
                <a:solidFill>
                  <a:srgbClr val="000000"/>
                </a:solidFill>
                <a:latin typeface="Boopee"/>
              </a:rPr>
              <a:t> Century Technologies so we can share their journey, allowing their learning to be more accessible</a:t>
            </a:r>
            <a:endParaRPr b="0" lang="en-US" sz="3300" spc="-1" strike="noStrike">
              <a:solidFill>
                <a:srgbClr val="000000"/>
              </a:solidFill>
              <a:latin typeface="Boopee"/>
            </a:endParaRPr>
          </a:p>
          <a:p>
            <a:pPr marL="328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oopee"/>
            </a:endParaRPr>
          </a:p>
          <a:p>
            <a:pPr marL="328320" indent="-230040">
              <a:lnSpc>
                <a:spcPct val="90000"/>
              </a:lnSpc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000000"/>
                </a:solidFill>
                <a:latin typeface="Boopee"/>
              </a:rPr>
              <a:t>Here are some of the skills our kids have now!</a:t>
            </a:r>
            <a:endParaRPr b="0" lang="en-US" sz="3300" spc="-1" strike="noStrike">
              <a:solidFill>
                <a:srgbClr val="000000"/>
              </a:solidFill>
              <a:latin typeface="Boopee"/>
            </a:endParaRPr>
          </a:p>
          <a:p>
            <a:pPr marL="328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oopee"/>
            </a:endParaRPr>
          </a:p>
          <a:p>
            <a:pPr marL="328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 u="sng">
                <a:solidFill>
                  <a:srgbClr val="d2611c"/>
                </a:solidFill>
                <a:uFillTx/>
                <a:latin typeface="Boopee"/>
                <a:hlinkClick r:id="rId2"/>
              </a:rPr>
              <a:t>http://www.youtube.com/watch?v=JuFsDN8dsJU&amp;feature=related</a:t>
            </a:r>
            <a:endParaRPr b="0" lang="en-US" sz="3300" spc="-1" strike="noStrike">
              <a:solidFill>
                <a:srgbClr val="000000"/>
              </a:solidFill>
              <a:latin typeface="Boope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0" y="1600200"/>
            <a:ext cx="82296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19600">
              <a:lnSpc>
                <a:spcPct val="90000"/>
              </a:lnSpc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000000"/>
                </a:solidFill>
                <a:latin typeface="Boopee"/>
              </a:rPr>
              <a:t>Given that our students are moving with Web 2.0 technologies, what are the implications of students using social networking tools?</a:t>
            </a:r>
            <a:endParaRPr b="0" lang="en-US" sz="3300" spc="-1" strike="noStrike">
              <a:solidFill>
                <a:srgbClr val="000000"/>
              </a:solidFill>
              <a:latin typeface="Boopee"/>
            </a:endParaRPr>
          </a:p>
          <a:p>
            <a:pPr marL="313920" indent="-219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oopee"/>
            </a:endParaRPr>
          </a:p>
        </p:txBody>
      </p:sp>
      <p:pic>
        <p:nvPicPr>
          <p:cNvPr id="297" name="Picture 3" descr=""/>
          <p:cNvPicPr/>
          <p:nvPr/>
        </p:nvPicPr>
        <p:blipFill>
          <a:blip r:embed="rId2"/>
          <a:stretch/>
        </p:blipFill>
        <p:spPr>
          <a:xfrm>
            <a:off x="928800" y="3571920"/>
            <a:ext cx="1247760" cy="6476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" descr=""/>
          <p:cNvPicPr/>
          <p:nvPr/>
        </p:nvPicPr>
        <p:blipFill>
          <a:blip r:embed="rId3"/>
          <a:stretch/>
        </p:blipFill>
        <p:spPr>
          <a:xfrm>
            <a:off x="2714760" y="3714840"/>
            <a:ext cx="1428480" cy="5331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"/>
          <p:cNvPicPr/>
          <p:nvPr/>
        </p:nvPicPr>
        <p:blipFill>
          <a:blip r:embed="rId4"/>
          <a:stretch/>
        </p:blipFill>
        <p:spPr>
          <a:xfrm>
            <a:off x="471492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6" descr=""/>
          <p:cNvPicPr/>
          <p:nvPr/>
        </p:nvPicPr>
        <p:blipFill>
          <a:blip r:embed="rId5"/>
          <a:stretch/>
        </p:blipFill>
        <p:spPr>
          <a:xfrm>
            <a:off x="6143760" y="3786120"/>
            <a:ext cx="1944720" cy="642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"/>
          <p:cNvPicPr/>
          <p:nvPr/>
        </p:nvPicPr>
        <p:blipFill>
          <a:blip r:embed="rId6"/>
          <a:stretch/>
        </p:blipFill>
        <p:spPr>
          <a:xfrm>
            <a:off x="1214280" y="4929120"/>
            <a:ext cx="971640" cy="11718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"/>
          <p:cNvPicPr/>
          <p:nvPr/>
        </p:nvPicPr>
        <p:blipFill>
          <a:blip r:embed="rId7"/>
          <a:stretch/>
        </p:blipFill>
        <p:spPr>
          <a:xfrm>
            <a:off x="3786120" y="5143680"/>
            <a:ext cx="924120" cy="838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" descr=""/>
          <p:cNvPicPr/>
          <p:nvPr/>
        </p:nvPicPr>
        <p:blipFill>
          <a:blip r:embed="rId8"/>
          <a:stretch/>
        </p:blipFill>
        <p:spPr>
          <a:xfrm>
            <a:off x="6357960" y="4786200"/>
            <a:ext cx="142884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Boopee"/>
              </a:rPr>
              <a:t>Check out other Powerful Learning Practice in Their Hands Netbook Trial</a:t>
            </a:r>
            <a:endParaRPr b="0" lang="en-US" sz="3600" spc="-1" strike="noStrike">
              <a:solidFill>
                <a:srgbClr val="000000"/>
              </a:solidFill>
              <a:latin typeface="Boope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pe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Boopee"/>
              </a:rPr>
              <a:t>http://plpnetbooktrial.wikispaces.com/</a:t>
            </a:r>
            <a:endParaRPr b="0" lang="en-US" sz="3600" spc="-1" strike="noStrike">
              <a:solidFill>
                <a:srgbClr val="000000"/>
              </a:solidFill>
              <a:latin typeface="Boope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2876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pee"/>
              </a:rPr>
              <a:t>http://cybersmart.gov.au/</a:t>
            </a:r>
            <a:endParaRPr b="0" lang="en-US" sz="2800" spc="-1" strike="noStrike">
              <a:solidFill>
                <a:srgbClr val="000000"/>
              </a:solidFill>
              <a:latin typeface="Boope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pee"/>
            </a:endParaRPr>
          </a:p>
          <a:p>
            <a:pPr marL="346680" indent="-24264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pee"/>
              </a:rPr>
              <a:t>http://murch.globalteacher.org.au/netgened/</a:t>
            </a:r>
            <a:endParaRPr b="0" lang="en-US" sz="2800" spc="-1" strike="noStrike">
              <a:solidFill>
                <a:srgbClr val="000000"/>
              </a:solidFill>
              <a:latin typeface="Boope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pee"/>
            </a:endParaRPr>
          </a:p>
          <a:p>
            <a:pPr marL="346680" indent="-24264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pee"/>
              </a:rPr>
              <a:t>http://cybersmart.gov.au/Teens/Tips%20and%20advice/Your%20digital%20footprint.asp</a:t>
            </a:r>
            <a:endParaRPr b="0" lang="en-US" sz="2800" spc="-1" strike="noStrike">
              <a:solidFill>
                <a:srgbClr val="000000"/>
              </a:solidFill>
              <a:latin typeface="Boope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pee"/>
            </a:endParaRPr>
          </a:p>
          <a:p>
            <a:pPr marL="346680" indent="-24264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pee"/>
              </a:rPr>
              <a:t>Tips for Leaving a Good Blog Comment.doc</a:t>
            </a:r>
            <a:endParaRPr b="0" lang="en-US" sz="2800" spc="-1" strike="noStrike">
              <a:solidFill>
                <a:srgbClr val="000000"/>
              </a:solidFill>
              <a:latin typeface="Boope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pee"/>
            </a:endParaRPr>
          </a:p>
          <a:p>
            <a:pPr marL="346680" indent="-24264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pee"/>
              </a:rPr>
              <a:t>Nine Themes of Digital Citizenship.doc</a:t>
            </a:r>
            <a:endParaRPr b="0" lang="en-US" sz="2800" spc="-1" strike="noStrike">
              <a:solidFill>
                <a:srgbClr val="000000"/>
              </a:solidFill>
              <a:latin typeface="Boopee"/>
            </a:endParaRPr>
          </a:p>
        </p:txBody>
      </p:sp>
      <p:pic>
        <p:nvPicPr>
          <p:cNvPr id="30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1:18:34Z</dcterms:created>
  <dc:creator>Education</dc:creator>
  <dc:description/>
  <dc:language>en-US</dc:language>
  <cp:lastModifiedBy>Education</cp:lastModifiedBy>
  <dcterms:modified xsi:type="dcterms:W3CDTF">2009-11-12T22:51:58Z</dcterms:modified>
  <cp:revision>19</cp:revision>
  <dc:subject/>
  <dc:title>Two Rivers DIDGes</dc:title>
</cp:coreProperties>
</file>